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9.wmf" ContentType="image/x-wmf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C3D4-330E-48EF-BB50-D02592E0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FAF-3F76-457C-B1D6-4CE44486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F274-2319-499F-9C87-5A71CEBF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CC2D-CBF2-4C47-B639-26650AAB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0F97-0D24-4CFA-80B4-AAFBBE84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476C-F43E-4FB3-87DA-9187A43D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0176-B891-4520-90C1-F1BF8F8E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78AA-4122-45C2-A405-AD2D3B32C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FE11D-9552-4C7C-823F-2CBCB0B7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598E-336B-4851-AD86-1C62C716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FD3B-B2F5-49E1-A360-37B0AC6F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718D-1223-4210-9989-425D4B75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5064-38F4-446B-899E-5630C9DCD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F7DE-69FC-4C29-8F16-767133F6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1D579-5F8D-4CEB-B1DC-B9A29778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5ED4-F40D-4389-8596-93F6D8D5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3CC4-0D39-43CF-9999-1439B1D4B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9FA5-3AC6-45BA-A9B3-DBF0AE3A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C066-2CA5-4A14-B4F8-BA886CF9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0631-1F09-4707-B6C2-35CFA4E6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6681-F57F-449D-8193-9C99259A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43D-8522-4B7E-B743-717B0457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555-B84D-43DF-81AA-3FCAA438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8BEA-6030-4D97-90FF-FB33B970D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BE54-32C7-4137-AEF9-B0FBA082451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A2F43-B845-4835-A18F-CF5B4A8DDAE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Unit B: Human Bod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eletal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artilag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tilage is a tough fibrous connective tissue that provides support to the skelton at points throughout the bod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is composed of specialized cells that are enclosed by jellylike medium of collagen and tough protei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114800" y="4648320"/>
            <a:ext cx="39625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6 types of Joi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l and Sock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dyl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dd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ivo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li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Ball and Socke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joint has a ball shape on the end of one bone And a cup shape on the other. This allows a ran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f movement in shou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hip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81480" y="2666880"/>
            <a:ext cx="38102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ondyloid Joi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n oval shape bone that fits into an egg shaped cavity of another bone that causes an angular motion. This is located in the palm of hand fingers , heel and to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00200" y="3581280"/>
            <a:ext cx="6400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Saddle Joint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ddle is located in the thumb. This is a joint where both bones that are connected concave and convex regions that complement one another and allow a wide range of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962520" y="3886200"/>
            <a:ext cx="5029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Pivot Join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joint has rounded surfaces that form a pivot like process that turns within a ring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25336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nge Joi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joint is where one bone fits into a concave depression in another bone that permits only flexion and extension as in the elbows and kne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429000" y="3048120"/>
            <a:ext cx="40384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Gliding Join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where flat surfaces move against on another a sliding movement as the wrist and ankl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23880" y="3276720"/>
            <a:ext cx="7010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mazing Fact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st bone is the pelv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est bone is the fem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es need Vitamin 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mallest bone is the stirru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ull has eight b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 facial b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3 vertebr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01992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y do we have a skeleton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ire skeleton compsed of 206 individual bon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provides protection for the brain with the skull and the internal organs with the sternum and rib c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nction of skeleton: provides a framework, movement, protection and it produces blood and stores min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Are bones alive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es or No and Expl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nes are composed of two types of tissue. Spongy Bone and Compact B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ngy: inside full of ho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ct: hard and forms protective surfac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wo division of Skeletal Syste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sion 1: Axial Skeleton: consist of the skull, sternum, ribs and vertebral colum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vision2:  Appendicular Skelet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st of the appendag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s, arms, should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 the pelvic are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332240" y="2571840"/>
            <a:ext cx="477720" cy="1712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010280" y="3657600"/>
            <a:ext cx="2133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our Types of B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Bones  have a cylinder or tube shape like the: Humerus, Femur, Ulna , Radius, Fibula Tibia and Phalanges. Act as lever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 Bones: are bones found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rist and ank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rt and cubed shap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620120" y="3276720"/>
            <a:ext cx="1139760" cy="18144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715000" y="4876920"/>
            <a:ext cx="14050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ypes of B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lat bones: are of course flat. Shoulder blades and ribs belong to this group. Your cranium is also fl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192640" y="2940120"/>
            <a:ext cx="3608640" cy="30290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811160" y="4048200"/>
            <a:ext cx="182412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ypes of BON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EGULAR BONES: are the ones that fit into any of the other groups. They are odd shaped. Examples: tiny bones in your ear and the vertebrae in your backbon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905120" y="3736800"/>
            <a:ext cx="4800600" cy="29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ow does the Skeleton Move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d out by the relationship between skeletal and muscle system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ints connect the two systems by tendons and ligamen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ons connect muscles to bon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aments contect bone to b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G BO BO and TEN MU B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2T12:12:05Z</dcterms:created>
  <dc:creator>Cumberland County Schools</dc:creator>
  <dc:description/>
  <dc:language>en-US</dc:language>
  <cp:lastModifiedBy>Cumberland County Schools</cp:lastModifiedBy>
  <dcterms:modified xsi:type="dcterms:W3CDTF">2010-11-02T13:00:36Z</dcterms:modified>
  <cp:revision>3</cp:revision>
  <dc:subject/>
  <dc:title>Unit B: Human Body</dc:title>
</cp:coreProperties>
</file>